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8.wmf" ContentType="image/x-wmf"/>
  <Override PartName="/ppt/media/image13.wmf" ContentType="image/x-wmf"/>
  <Override PartName="/ppt/media/image30.png" ContentType="image/png"/>
  <Override PartName="/ppt/media/image5.png" ContentType="image/png"/>
  <Override PartName="/ppt/media/image14.png" ContentType="image/png"/>
  <Override PartName="/ppt/media/image9.wmf" ContentType="image/x-wmf"/>
  <Override PartName="/ppt/media/image11.png" ContentType="image/png"/>
  <Override PartName="/ppt/media/image29.wmf" ContentType="image/x-wmf"/>
  <Override PartName="/ppt/media/image31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34.png" ContentType="image/png"/>
  <Override PartName="/ppt/media/image17.wmf" ContentType="image/x-wmf"/>
  <Override PartName="/ppt/media/image35.wmf" ContentType="image/x-wmf"/>
  <Override PartName="/ppt/media/image7.wmf" ContentType="image/x-wmf"/>
  <Override PartName="/ppt/media/image12.png" ContentType="image/png"/>
  <Override PartName="/ppt/media/image10.png" ContentType="image/png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73F-EDD2-4A3C-BE1C-F1F9E864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9CC-32AC-4768-BD5A-397AB613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E4C-648E-4498-89CB-B90F8C4B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FE3-F338-4DC4-9BAD-E0D6CDE6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2732-0605-4AF0-A84C-10888A0F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4775-D0CE-400A-82A2-714A4C17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3753-8BB3-4F3B-86A7-DBF40349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DA34-C9E4-41B8-B327-D9244D36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75EB-B576-4F91-893D-FF027EB7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B5D2-DA87-4C32-94CE-759DAEE7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86A1-0753-43B1-BF5E-3446750A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769-99F1-4D06-8A19-45372F20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E0E4-A6A3-4FFD-9810-A959909F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FA21-2B73-41CD-9CD3-155B0C94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1E7E-587A-4ECC-8CAC-32C4C09C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7D64-7073-4311-B49A-6031EDD0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B2DE-1CD1-4982-A555-A881E3DB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0AE-E2FE-47A8-A8FC-A830934A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B93-629F-4D79-B0AD-FE93D4F2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FF0-78DA-466B-9A0C-9D09600F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688-DB34-47C3-ABA8-16954E53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19F-E615-4264-98ED-0FECC32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2BF-B100-4638-81D2-24620995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ED4-1334-441B-8449-F8775D89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68000" y="6237000"/>
            <a:ext cx="49676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A3D9-E820-4EB9-94B0-093B35A07053}" type="slidenum">
              <a:rPr b="0" lang="fr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B032-9563-4992-B8E0-BF0847ECBDF4}" type="slidenum">
              <a:rPr b="0" lang="fr-C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9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Java Data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Pablo Martine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68840" y="2492280"/>
            <a:ext cx="1665000" cy="1800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56040" y="2027160"/>
            <a:ext cx="30319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Premier exe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19320" y="1981080"/>
          <a:ext cx="662940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66294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15200" y="92160"/>
            <a:ext cx="1676520" cy="151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Deuxième exe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28800" y="2057400"/>
          <a:ext cx="54864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54864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238880" y="98280"/>
            <a:ext cx="1752840" cy="16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524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JDO Query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6557760" cy="37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Syntaxe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newQuery() méth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lasse candi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Navigation du modè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Paramètres, Filtre, Ord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llection pour le résult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125280"/>
            <a:ext cx="2057400" cy="162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308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Troisième Exe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10280" y="120600"/>
            <a:ext cx="1981440" cy="14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685800" y="1889280"/>
          <a:ext cx="8001000" cy="42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89280"/>
                    <a:ext cx="80010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Des opérateurs JDOQ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65648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mparaison (==, !=, &lt;, &gt;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Logiques (&amp;, |, &amp;&amp;, ||, ~, 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Navigation (.contai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éthodes (toLowerCase,matches,startsWi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905120" cy="149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5715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Calcul d</a:t>
            </a: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’</a:t>
            </a: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ncêt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26920" y="2003400"/>
          <a:ext cx="547380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03400"/>
                    <a:ext cx="547380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19640" y="5043600"/>
            <a:ext cx="60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ncêt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ncêt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ncêt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)))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934320" y="1212840"/>
          <a:ext cx="1439640" cy="5187960"/>
        </p:xfrm>
        <a:graphic>
          <a:graphicData uri="http://schemas.openxmlformats.org/drawingml/2006/table">
            <a:tbl>
              <a:tblPr/>
              <a:tblGrid>
                <a:gridCol w="702360"/>
                <a:gridCol w="737280"/>
              </a:tblGrid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cê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f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J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J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u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u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u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J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J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u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u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J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u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n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u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Robert Godin. Tous droits réservés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Trans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205000"/>
            <a:ext cx="7910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Standard AC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Transaction &lt;-&gt; Persistance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Environn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Non gér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Gér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629400" y="230040"/>
            <a:ext cx="2286000" cy="14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308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Sécurit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467480" cy="38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tStateManager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tMetadata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osePersistenceManagerFactory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 codeBase "file:/home/jdoImpl/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mission javax.jdo.spi.JDOPermission "getMetadata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mission javax.jdo.spi.JDOPermission "setStateManager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mission javax.jdo.spi.JDOPermission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"closePersistenceManagerFactory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61280" y="76320"/>
            <a:ext cx="1630440" cy="167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JDO et EJ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2 scén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Beans de Session avec JDO comme objets indépend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Des Beans d’entité délèguent aux objets JDO ( BMP ou CMP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bd04962_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Implé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6918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Kodo JDO ( Solarmetric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in00327_" descr=""/>
          <p:cNvPicPr/>
          <p:nvPr/>
        </p:nvPicPr>
        <p:blipFill>
          <a:blip r:embed="rId1"/>
          <a:stretch/>
        </p:blipFill>
        <p:spPr>
          <a:xfrm>
            <a:off x="7399440" y="152280"/>
            <a:ext cx="151596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066680" y="2819520"/>
          <a:ext cx="6629400" cy="33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819520"/>
                    <a:ext cx="66294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JDO … c’est quoi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217008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Persistance transparen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Langage Jav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Petit nombre d’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Mapping automatique de/à B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Cache d’obj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bd05044_" descr=""/>
          <p:cNvPicPr/>
          <p:nvPr/>
        </p:nvPicPr>
        <p:blipFill>
          <a:blip r:embed="rId1"/>
          <a:stretch/>
        </p:blipFill>
        <p:spPr>
          <a:xfrm>
            <a:off x="7086600" y="76320"/>
            <a:ext cx="190512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308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Implé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6342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FastObjects ( Versant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09480" y="2549520"/>
          <a:ext cx="800100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49520"/>
                    <a:ext cx="800100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in00294_" descr=""/>
          <p:cNvPicPr/>
          <p:nvPr/>
        </p:nvPicPr>
        <p:blipFill>
          <a:blip r:embed="rId3"/>
          <a:stretch/>
        </p:blipFill>
        <p:spPr>
          <a:xfrm>
            <a:off x="7543800" y="272880"/>
            <a:ext cx="1371600" cy="12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308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Implé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Open Access ( Versant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14400" y="2381400"/>
            <a:ext cx="7315200" cy="4011480"/>
          </a:xfrm>
          <a:prstGeom prst="rect">
            <a:avLst/>
          </a:prstGeom>
          <a:ln w="0">
            <a:noFill/>
          </a:ln>
        </p:spPr>
      </p:pic>
      <p:pic>
        <p:nvPicPr>
          <p:cNvPr id="160" name="j0310262" descr=""/>
          <p:cNvPicPr/>
          <p:nvPr/>
        </p:nvPicPr>
        <p:blipFill>
          <a:blip r:embed="rId2"/>
          <a:stretch/>
        </p:blipFill>
        <p:spPr>
          <a:xfrm>
            <a:off x="7620120" y="152280"/>
            <a:ext cx="1341360" cy="13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Applications de J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819160"/>
            <a:ext cx="731520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UCLA - Projet MIST (FastObjec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Logement Français (LIBeL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LaSalle St. (OpenAc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bd10431_" descr=""/>
          <p:cNvPicPr/>
          <p:nvPr/>
        </p:nvPicPr>
        <p:blipFill>
          <a:blip r:embed="rId1"/>
          <a:stretch/>
        </p:blipFill>
        <p:spPr>
          <a:xfrm>
            <a:off x="7162920" y="119160"/>
            <a:ext cx="1803240" cy="163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60280"/>
            <a:ext cx="58672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Le Futur de J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880" y="2286000"/>
            <a:ext cx="8058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Tahoma"/>
              </a:rPr>
              <a:t>Sun a JSR220 (EJB 3.0) et JSR243 (JDO 2.0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largir le JSR220 avec une partie du JSR2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seule norme de POJO à partir du JSR220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 seul std. de mapping O/R pour J2SE et J2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l pourra être utilisé séparément de EJB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DOQL sera supporte pour le nouveau PO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bd04972_" descr=""/>
          <p:cNvPicPr/>
          <p:nvPr/>
        </p:nvPicPr>
        <p:blipFill>
          <a:blip r:embed="rId1"/>
          <a:stretch/>
        </p:blipFill>
        <p:spPr>
          <a:xfrm>
            <a:off x="7010280" y="1713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5630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Bibliograph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1905120"/>
            <a:ext cx="6553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JSR12 &amp; JSR2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un Microsystems Inc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David Jordan &amp; Craig Russell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ava Data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’Reilly.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David Jor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n introduction to the JDO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bjects Identity Inc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obin Ro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Java Data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ddison Wesley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bs00809_" descr=""/>
          <p:cNvPicPr/>
          <p:nvPr/>
        </p:nvPicPr>
        <p:blipFill>
          <a:blip r:embed="rId5"/>
          <a:stretch/>
        </p:blipFill>
        <p:spPr>
          <a:xfrm>
            <a:off x="7086600" y="15228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651040" y="2157480"/>
            <a:ext cx="3505320" cy="34322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589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333399"/>
                </a:solidFill>
                <a:latin typeface="Tahoma"/>
              </a:rPr>
              <a:t>Merc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3825360"/>
            <a:ext cx="777240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Comparai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95480" y="2361960"/>
            <a:ext cx="3353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Sérial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JDB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J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16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Les Nor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170080"/>
            <a:ext cx="640080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JSR 12 ( mars 2002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JDO 1.0.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Groupe d’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JSR 243 ( brouillon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JDO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Groupe d’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s01027_" descr=""/>
          <p:cNvPicPr/>
          <p:nvPr/>
        </p:nvPicPr>
        <p:blipFill>
          <a:blip r:embed="rId5"/>
          <a:stretch/>
        </p:blipFill>
        <p:spPr>
          <a:xfrm>
            <a:off x="6477120" y="108000"/>
            <a:ext cx="2525760" cy="149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566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Modèle J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Des classes Java ( support d’héritage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Fichier XML de Meta-donné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Il n’y a pas de types spécif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« Enhanced » de fichiers .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Constructeur Nu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15200" y="76320"/>
            <a:ext cx="1654200" cy="167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632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Meta donné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240" y="2133720"/>
            <a:ext cx="73422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Quelles classes seront persis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Héri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éfé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Exe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&lt;jdo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&lt;package name="src.test"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&lt;class name="Personne" 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&lt;/packag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ahoma"/>
              </a:rPr>
              <a:t>&lt;/jdo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238880" y="120600"/>
            <a:ext cx="1779840" cy="15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480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Identit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2323800"/>
            <a:ext cx="85341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our l’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&lt;class name="Branch" identity-type="application" objectid-class="Branch$ID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Pour la source de donn</a:t>
            </a: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é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&lt;class name="Branch" identity-type="datastore" objectid-class="Branch$ID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Non durable ( facultative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journaux, histor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086600" y="101520"/>
            <a:ext cx="1905120" cy="17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Modification des cla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58436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914400" y="2209680"/>
          <a:ext cx="7391520" cy="40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209680"/>
                    <a:ext cx="73915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5969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99"/>
                </a:solidFill>
                <a:latin typeface="Tahoma"/>
              </a:rPr>
              <a:t>Comment ça marche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88928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90720" y="2081160"/>
          <a:ext cx="7391160" cy="42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81160"/>
                    <a:ext cx="739116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an02581_" descr=""/>
          <p:cNvPicPr/>
          <p:nvPr/>
        </p:nvPicPr>
        <p:blipFill>
          <a:blip r:embed="rId3"/>
          <a:stretch/>
        </p:blipFill>
        <p:spPr>
          <a:xfrm>
            <a:off x="7315200" y="152280"/>
            <a:ext cx="1676520" cy="116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a Data Objec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INEZ</cp:lastModifiedBy>
  <dcterms:modified xsi:type="dcterms:W3CDTF">2004-12-20T16:41:30Z</dcterms:modified>
  <cp:revision>95</cp:revision>
  <dc:subject/>
  <dc:title>PowerPoint Presentation</dc:title>
</cp:coreProperties>
</file>